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0309-8496-440D-B3EA-5914BF242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D7A6-ECBC-410F-8164-9AF83016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0752-9251-49E9-A566-9D48A70E8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F82F-B3D1-4AA3-ABCE-3F548AC19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B9A9-1330-49B1-B70B-52212F0E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9AC1-E9E3-478B-8190-2D881C7F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A6A8-B2AC-4189-BFAB-7CEF4696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B76C-DFB3-4DE1-B8CF-9251C015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F7B4-1D05-4792-A432-ED6803B9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7660-FACB-423C-B118-89C235B3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67DD-6316-4631-8672-D9EF59C5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7A77-F459-4570-90F4-BCE78610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2827-5984-4EBF-960E-9094394E2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2204640"/>
            <a:ext cx="74865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nee Flavel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dmin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4869000"/>
            <a:ext cx="2158920" cy="1530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859280" y="4437000"/>
            <a:ext cx="39243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ull name: Renee Kimberly Flav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ge: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OB:28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March 19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orn in: Nag Puhi &amp; Ngati Kahungu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eight:1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ight: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amily and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o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a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ibl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ere they grew up: Auckland, New Zea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o they have a job other than their sp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porting p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ast Olympics: 2008 Beij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wards won: She is ranked in the top 30 in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ow old were they when they started? When she was you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ave they had to overcome any problems to get where they are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Being the best they can 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hat do they have to do to be as good as they are?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(Training, food, lifestyle…) training eat healthy fo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994360" y="1600200"/>
            <a:ext cx="1346400" cy="218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332000" y="4724280"/>
            <a:ext cx="28796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y this athle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xplain here why you have chosen this athlete. What do you like about them? How have they inspired you? </a:t>
            </a:r>
            <a:br>
              <a:rPr sz="3200"/>
            </a:br>
            <a:br>
              <a:rPr sz="3200"/>
            </a:b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ecause I like badminton and I liked her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0:13:15Z</dcterms:created>
  <dc:creator>Miriam Laidlaw</dc:creator>
  <dc:description/>
  <dc:language>en-US</dc:language>
  <cp:lastModifiedBy>Ministry of Education</cp:lastModifiedBy>
  <dcterms:modified xsi:type="dcterms:W3CDTF">2008-09-25T02:31:11Z</dcterms:modified>
  <cp:revision>8</cp:revision>
  <dc:subject/>
  <dc:title>Name of Athlete</dc:title>
</cp:coreProperties>
</file>